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48F-BDF2-42AE-A73D-452C2852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174-54FA-44E9-808A-3B2F367E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259-ED7C-4504-91A9-5C47AE0B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65B-9D9F-4355-9E43-108F57D1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27CE-B50A-4DB0-B84F-643C3E7B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4D89-9BA7-4BAD-A7EC-5B5AC1B7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71B4-2D82-47CA-85BE-9FD21DB3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27F0-B846-4AD5-AE56-AD15C346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316A-BAE1-4C95-A30B-77B93DB2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A9C5-8DA4-47C6-80A5-0032BC0F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17AB-A6B3-47AD-8D7D-6375A757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029-FD89-4E3E-9C5A-8E887AE2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EC08-36F6-4ACB-8715-6D0577B3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DD3F-CF94-482C-B219-B6A0AD4F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EF27-4E92-40CC-8425-86D7E1C0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48F0-942D-4676-BDFB-11D55720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F781-11EA-47D5-9067-035C930B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112E11-B702-458F-91A2-CF8AA04301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00AB93-CCDF-4CF5-8DDB-BF6D7EEB64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1F73A3-9725-4A23-A046-E283D52F45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BE76E9-4684-4060-9300-E7DCCCD67D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35DBC3-289E-4A4F-BF62-9AA78B65C0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A7E-359A-4961-A925-2F0470BA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323FF4-3566-4D0F-B943-EEF2A51CDD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B8C97E-9111-423A-900A-CF5D273184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E2522E-04AF-4F7C-AACE-169B098B9C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97A5AF-A1ED-4E76-A0CE-23F2D65600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7C6FD7-C434-4C79-886D-9B3B1FF1C5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98A1E1-048A-496B-B95D-A65EDCA75F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C299BB-6187-4507-B45F-910FED221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A49-F7BD-456E-B66A-86049955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CF1-054B-4FBE-AA2B-4B8BC358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C81-AE5F-45EB-976B-AFC4D30B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E27-858C-47AC-9E73-51AEF275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CFA-4572-429E-9461-E7484C20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D61-1098-419A-A69C-769B7E29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EF2D-844A-499A-B629-986A1381C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85A7-8F3E-4F2C-BE3F-C44CB3EF1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59BE-2E1A-4A1E-9844-702DB3AA6865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0066"/>
                </a:solidFill>
                <a:latin typeface="Tahoma"/>
              </a:rPr>
              <a:t>ФИЗИКАЛНА ТЕРАПИЈА КОД ПОВРЕДА МЕКИХ ТКИВА ДОЊЕГ ЕКСТРЕМИТЕТ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9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310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12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13" name="Picture 5" descr="C:\Users\User\Desktop\преузимање.jpg"/>
          <p:cNvPicPr/>
          <p:nvPr/>
        </p:nvPicPr>
        <p:blipFill>
          <a:blip r:embed="rId3"/>
          <a:stretch/>
        </p:blipFill>
        <p:spPr>
          <a:xfrm>
            <a:off x="6934320" y="228600"/>
            <a:ext cx="1962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онтуз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сте су контузије у пределу </a:t>
            </a: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великог трохантер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при чему се иритира и бурза која лежи између тетива м.глутеуса маxимуса и м.тенсора фасције лате и великог троханте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ред палпаторне болне осетљивости, постоји ограничење флексије, екстензије и ротације, због притиска илиотибијалног трактуса на напету бурз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злив крви у бурзу узрокује јаке болов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4100-A85E-463B-8A5C-E9BD2D11A1F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Дисторзије ку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ома су ретке повреде, због великог обима покрета у зглобу и снажних лигамена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се манифестују болом у препони, ређе позад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ови се појачавају при покретима ротације против отпо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лексиона контрактура кука се појачава развојем реактивног трауматског синовити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5AEA-2DA7-4FF3-99FA-402BF874C6C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Дистензије мишића</a:t>
            </a:r>
            <a:br>
              <a:rPr sz="4000"/>
            </a:b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m.sartorius-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440" y="19051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стензија полазишта м.сарторијуса настаје услед снажних, изненадних контракција при трчању и скакањ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 се појачава при пасивној спољној ротацији, флексији и абдукцији натколениц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D816-3C71-4927-AF69-B167F5B3554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Дистензија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мишића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3600"/>
            </a:b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m.rectus femoris-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09480" y="17524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стензија полазишта м. ректус фемориса, на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IA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настаје при изненадној промени корака при трчању (нарочито код недовољно загрејаних и преморених тркача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 се пројектује на предњу страну карлице. Болна је и отежана екстензија кука, као и активна контракција квадрицеп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E957-457F-46AB-85EF-610CB9C8A25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Дистензија мишића</a:t>
            </a:r>
            <a:br>
              <a:rPr sz="3600"/>
            </a:b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m.gluteus medius-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85800" y="16765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стензија полазишта м.глутеус медиус-а настаје форсираном абдукцијом натколенице (често код гимнастичарки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ови ирадирају од илијачног гребена ка великом трохантеру и појачавају се при активној абдукцији против отпо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DA4F-79F9-4BAC-9909-970189838FA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Бол у препони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48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иоентезитичне природе, настају као кумулативне афекције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мишића адуктора и посебно илиопсоаса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Ентезитис карличних припоја , а болном пројекцијом у препону, се често јавља код спортиста (тркача,  фудбалер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уги примицач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adductor fem.longus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је изложен трауми при форсираним абдукциј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CE51-D775-4C84-8AA6-AC1DF6B5716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660066"/>
                </a:solidFill>
                <a:latin typeface="Tahoma"/>
              </a:rPr>
              <a:t>Бол у препони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38080" y="160020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adductor femoris magnu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е изложен при изненадној снажној контракцији (при трчању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ови су локализовани у исхиопубичној регији и шире се дуж медијалног дела натколенице, чак до мед.кондила бутне к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 се појачава при активној абдукцији против отпо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35B7-7E59-49A0-B3DC-2AD6FB62759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Луксација ку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настају механизмом индиректне силе, код аутомоболских несре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зависности од положаја главе фемура према ацетабулуму, луксација може бит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дње/горња и  предње/доња и задње/горња и задње/доњ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се јавља задње/горња луксација при којој се глава бутне кости помера према позади и навиш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ебан тип луксације кука је када глава бутне кости прелама и пробија дно ацетабулу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BA36-9735-40C3-A68E-0110D06C6D8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Right Arrow 4"/>
          <p:cNvSpPr/>
          <p:nvPr/>
        </p:nvSpPr>
        <p:spPr>
          <a:xfrm>
            <a:off x="304920" y="32004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нтензиван бол у ку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задњих луксација, нога је скраћена, ротирана на унутра, савијена у куку и припијена (адукциј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предњих луксација, нога је скраћена, ротирана упоље, савијена у куку и одмакнута (абдукциј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тоји немогућност активних и пасивних покрета ку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85EC-1F95-4992-9E87-BFBECF993B3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ијагностик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мнеза са клиничком сликом и објективним прегледом је најчешће довољна да се постави дијагноза ишчашења ку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 би се дијагноза дефинитивно поставил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ТГ  снимак кука у две пројек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2BB4-F026-4BA0-8428-B54421691E1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Траума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овређивање, без обзира да ли се ради о повредама задобијеним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на раду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У саобраћају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порту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у кући ил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на јавном месту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редставља озбиљан социјално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медицински и економски проблем за сваку земљу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13D7-1A6B-4318-AC84-A6B1114FD8C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Лечење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ртопедско лечење- репозиц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ировање, ход без ослонаца(8-12 недељ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ал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мпликације ишчашења ку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аваскуларна некроза главе бутне кост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остеоартритис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. осифицирајући миозити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.оштећење ишиадичног нер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604C-B8B2-47EA-BF38-2D045F90835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Лечењ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епозиција главе бутна кости у ацетабулу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Хируршка репози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0A51-A203-4907-B682-0107D90B5B7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60066"/>
                </a:solidFill>
                <a:latin typeface="Tahoma"/>
              </a:rPr>
              <a:t>ПОВРЕДЕ МИШИЋА НАТКОЛЕНИЦ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вреда мишића предње ложе</a:t>
            </a:r>
            <a:br>
              <a:rPr sz="3600"/>
            </a:b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 m.quadriceps femoris-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ректне или индиректним механизм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тузије, дистензије, лацерације и руптур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су контузије. У мишићу долази до настанка хемато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знаци: бол и оток. Палпаторно се може утврдити локализација повред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чење: 4-6 недеља, мировање, физикална терапија.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7FA2-3B94-4583-A445-3A300291A0E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Повреда мишића предње лож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09480" y="18288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ндиректним механизмом повреде долази до дистензионих повред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главном на пателарном припоју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quadriceps-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познат као Синдинг-Ларсенов синдр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F7EC-0D36-45CA-B167-BF321AB9FE0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Повреда мишића задње лож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85440" y="16002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 biceps femor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semimembranos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semitenidinos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еде углавном настају индиректним механизмом- изненадне снажне контра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а слика:бол са полазишта кратке главе бицепса, као највурнерабилнијег дела задње лож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апија:мировање, физикал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FB03-8574-4D50-AC28-279D9E2A9E5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вреда мишића унутрашње лож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37720" y="160020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ductor magnus,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ductor longus,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m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dductor brevis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ctineus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5.m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racilis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еде су углавном на карличним полазишт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рок: префорсирана абдук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: болна осетљивост у исхиопубичној регији, оток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апија: физикална терап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6048-C99C-4F2C-ABDD-F8F2397F07A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60066"/>
                </a:solidFill>
                <a:latin typeface="Tahoma"/>
              </a:rPr>
              <a:t>ПОВРЕДЕ КОЛЕ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табилизатори колена се деле на пасивне (лигаменти колена и менискуси) и активне (мишићи колен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асивни стабилизатори колен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Колатерални лигаменти (унутрашњи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 спољашњи 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Укрштени лигаменти (предњи 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 задњи 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9BEA-72CB-4816-8DE9-C89241FD1AD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вреде лигамената колена - 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LCM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Повреде медијалних колатералних лигамен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иректна сил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Обично су удружене повреде</a:t>
            </a:r>
            <a:r>
              <a:rPr b="1" lang="sr-RS" sz="2400" spc="-1" strike="noStrike">
                <a:solidFill>
                  <a:srgbClr val="ff0000"/>
                </a:solidFill>
                <a:latin typeface="Tahoma"/>
              </a:rPr>
              <a:t>:”несрећна тријада”</a:t>
            </a: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sr-R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CM ,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медијалног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менискус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LCA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линичка слика:бол, оток, отежан ход. Могућ валгус при ослонц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г:НМР; абдукциони стрес те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F694-3FF1-4397-B0A8-157484952BA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Ендогене повред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астају као последица анатомск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физиолошк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омен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премора</a:t>
            </a:r>
            <a:r>
              <a:rPr b="1" i="1" lang="sr-Latn-CS" sz="24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1" i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или</a:t>
            </a:r>
            <a:r>
              <a:rPr b="1" i="1" lang="sr-Latn-CS" sz="24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1" i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пренапрезањ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Акутн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симптоматолог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Хроничн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симптоматолог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D919-3EF0-4B8F-959C-FB28A48D6B6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Повреде лигамената колена</a:t>
            </a: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 - LCM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7720" y="16002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бдукциони или валгус стрес тест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испитује стабилност, односно јачину медијалног колатералног лигамен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D06E-E93D-49F3-9824-864956B25BC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медијалних колатералних лигаменат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Јављају се у три степе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. степен – то су дистензионе повреде (елонгационе дисторзије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вреда је праћена оштрим болом. Присутност палпаторног бола на кондилијарним припојима лигамената (ткз. смучарска тачка) болна осетљивост се појачава услед форсиране абдукције потколенице а зглобни простор је неосетљив и без знакова лигаментарне нестабилн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5B21-2D7F-43CD-923F-AE1BFD13C9C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медијалних колатералних лигаменат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. степен – повреде овог степена одликују се делимичним расцепом лигамената (лацерациона дисторзија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авља се најчешће на медијалном лигаменту и са непосредном појавом отока због присутне хемораг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на осетљивост је најчешће на једном од лигаментарних припоја која се појачава латеризацијом потколенице, нарочито на спољну ротацију у лакој флексиј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AA57-CF00-4868-B2AD-54B92AD714D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медијалних колатералних лигаменат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. степен – повреде овог степена су и најтеже то су најчешће руптурационе дисторз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јављује се оток (хематроза), изражена палпаторна болна осетљивост на горњем или доњем припоју, а некад и дуж целог лигамен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бог потпуног прекида лигамента нема рефлексног спазма, а бол се појачава на покушај латерализације потколениц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9AC4-95CD-443F-BDD5-4EF1FA5BD63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медијалних колатералних лигаменат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808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стракциони тест ил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pley’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ст служи за процену лезије медијалног колатералног лигамента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CM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едном руком се фиксира натколеница а другом подиже  потколеница под правим углом. Уколико је присутна лезија лигамнета долази до појачавања бо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02F6-5320-42D4-BE2D-EC0395AB878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66"/>
                </a:solidFill>
                <a:latin typeface="Tahoma"/>
              </a:rPr>
              <a:t>Тест за испитивање медиолатералне нестабилности колен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762120" y="15238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алгус стрес те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лено је флектирано под углом од 30. Једном руком се фиксира фемур, другом се помера потколеница медијално и латерално. Ако постоји лацерација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C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појачава се бол, ако постоји руптура долази до отв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ња зглоба медијал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441D-7D30-464B-B6E8-0C3067F8963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66"/>
                </a:solidFill>
                <a:latin typeface="Tahoma"/>
              </a:rPr>
              <a:t>Тест за испитивање медиолатералне нестабилности колена</a:t>
            </a:r>
            <a:r>
              <a:rPr b="0" lang="sr-Latn-CS" sz="2800" spc="-1" strike="noStrike">
                <a:solidFill>
                  <a:srgbClr val="660066"/>
                </a:solidFill>
                <a:latin typeface="Tahoma"/>
              </a:rPr>
              <a:t>- LCL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762120" y="1600200"/>
            <a:ext cx="4952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дукциони или варус-стрес тест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зводи се на сличан начин као и претходни, у истој позицији пацијента. Такође се ради у пуној екстензији и флексији од 30°. Испитивач шаке поставља са медијалне стране колена уз аплицирање адукционе или варус силе на потколеницу. Позитиван тест у екстензији значи обимну повреду структур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CL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 задњег аспекта кол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0292-3372-4E43-9309-46C63797ADA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lig. colaterale </a:t>
            </a:r>
            <a:br>
              <a:rPr sz="3200"/>
            </a:b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laterale (LCL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37720" y="19051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ректна си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а сли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, оток, хематом, отежан хо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г:НМР, адукциони стрес тест позитива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асификују се у три степана повреде према нестабилн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х:оперативна и неоператив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9FB4-1B68-46EB-8E71-6C65034D91D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предњих укрштених лигамената (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LCA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377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линичка слик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прасак при настанку повред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осети да је нешто пукло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бол који се појачава при покрет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нестабил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ото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блокада кол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након неколико дана атрофија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quadriceps fe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5797-A832-47BB-A899-00630514641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вреде предњих укрштених лигамената (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LCA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837720" y="19051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г: НМР, артроскопија, РТГ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тестови: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achman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ст,тест предње фијо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чење:оперативно и неоператив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1968-EEDD-469F-9F48-E968BFE4A7E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Егзогене повред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под дејством спољних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ил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л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генс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де до прекид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тинуитет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л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мен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руктур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0C16-2B4C-4A0C-8714-25E7C1FB57F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предњих укрштених лигамената (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LCA)-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ест предње фиоке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85440" y="1523520"/>
            <a:ext cx="4800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итаник лежи на леђима, с коленом флектираним под углом од 90°, фиксиран дистални дио потколенице. Потколеница се повлачи према напред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мерање до 5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m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(+) спада у физиолошку лабавост, помак од 10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m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(++) најчешће значи парцијалну руптуру, а помак преко 10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m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(+++) представља комплетну руптуру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C09B-343D-4D0E-A5E6-9B92C33BE6A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предњих укрштених лигамената (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LCA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762120" y="1523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Лахманов (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Lachmanov</a:t>
            </a:r>
            <a:r>
              <a:rPr b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тест предњег померања тибије састоји се од испитивања симптома предње фиоке уз флексију колена од 20-30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кушава се повлачење потколенице према напред. Уколико се направи померање веће од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4 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mm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казује на лезију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CA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49AA-F867-4642-AD3F-0315447A5EE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задњих укрштених лигамената (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LCP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8380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Клиничка слик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растућа бол и умерен ото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отежан ослонац и хо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код старијих повреда- бол и нестабилност при ход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г:НМР,РТ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36BC-1E22-49BA-9248-C5261381F5C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задњих укрштених лигамената (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LCP)</a:t>
            </a: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 -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ест „задње-фиоке”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838080" y="190512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ст „задње-фиоке” сматра се најосетљивијим клиничким тестом за процену оштећења LCP-а и мери задње померање тибије у односу на фемур, као и степен те нестабилн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302F-EBE7-4A5D-A1EC-A0DAAF430BC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задњих укрштених лигамената (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LCP)</a:t>
            </a: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 -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ест „задње-фиоке”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85440" y="1523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 извођењу овога теста пацијент лежи на леђим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Нога је у куку савијена на 45°, а у колену 90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спитивач палцем палпира медијални зглобни прoстор а дланом врши притисак позади на проксималну тибију. Тако палпацијом може да осети уколико постоји задње померање платоа тиб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8ED9-EABE-439B-951D-948698F6D06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Повреде задњих укрштених лигамената (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LCP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914400" y="18288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степен:мировање, орто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степен имобилизација 4-6 недеља, физикал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степен – хируршко леч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097A-9B6C-4004-BD07-B24C0245771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Луксација чашиц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Честе повреде, најчешће се луксира латерално постави задњом страном према спољашњем кондилу фему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ханизам повреде:форсирана спољашња ротација са фиксираним стопал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линичка сли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бол, ограничена покретљив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видљив дефомите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изражен оток кол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г:РТ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330F-6D42-4E8C-83DA-CB1394B3F26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Tahoma"/>
              </a:rPr>
              <a:t>Повреде мениску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ве еластичне, полумесечасте везивно-хрскавичаве структуре које се налазе унутар зглоба колена, на горњем окрајку голењаче, тј. бази унутрашњег и спољашњег кондил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зликујемо спољашњи менискус, који је скоро кружног облика, и полукружни унутрашњи менискус 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8115-0EDA-43AD-8D75-6B70FC7D6E8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660066"/>
                </a:solidFill>
                <a:latin typeface="Tahoma"/>
              </a:rPr>
              <a:t>Повреде менискус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ханизам повре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директни  (код скокова и пада са висин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индиректн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вежи трауматски расцеп мениску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уздужни перикапсулар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уздужна руптура тела мениск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71AB-8CB6-4F52-85A0-B37F1FF22CB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овреде менискуса колен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јчешћа повреда у спорт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ханизам повреде менискуса је сложе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ди се о оштрим снажним изненадним ротацијама, дирекним ударима, обуздавајућим покретима задње медијалне капсуле и то услед затезања семимембранозуса или предње латералне капсуле при флексији тибије и кретању фемура напред, односно при форсираној флексији коле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B779-3394-4FB9-AA1E-5AAC189B426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бзиром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чуваност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же и слузокож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 би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затворене повреде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отворене повре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арактеристика</a:t>
            </a: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творених</a:t>
            </a: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овреда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ом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што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н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дстављај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лаз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рат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ољн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нфекциј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ебно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еробн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танус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25E7-5B13-451C-AC35-2A4ED110641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нискална пукотина може бити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онгитудинал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хоризонтал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дијал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4C18-704F-4989-A3E2-274AF139C36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660066"/>
                </a:solidFill>
                <a:latin typeface="Tahoma"/>
              </a:rPr>
              <a:t>Повреде менискуса</a:t>
            </a: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 – </a:t>
            </a:r>
            <a:br>
              <a:rPr sz="4400"/>
            </a:b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Клиничка сли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бол дуж линије зглоба и блокада кол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оток, због иритације синов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блокада функција (не може да исправи колен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осећај прескакања, шкљоцања у колен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ход са ослонцем на делимично флектирано коле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ако не може да хода могућа удруженост са повредом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5DDB-4684-4267-89E2-0125CE81CF2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овреде менискус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тири основна симптома повреде менискуса су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бо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ото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нестабил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б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локад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Дг: НМР, РТГ,артроско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151F-45AE-433C-9298-0727055644B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Mc Murray  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ес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85800" y="16002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води се тако што пацијент лежи на леђима. Испитана нога је савијена је у куку и колену а пета додирује бутин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спитивач једном руком обухвата стопала а другом колено. Ротира стопало у поље, потколеницу абдукује и колено екстендира. Ако под руком осети прескок највероватније се ради о расцепу медијалног мениску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9CB7-EFD8-4C69-8780-367BEE4ACC5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Apley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тес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цијент лежи потрбушке са коленима флектираним под углом од 90. степени а натколеницом фиксираном за лежишт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спитивач са обе руке притисне на потколеницу и ротира стопало наизменично унутра и у поље мењајући степен флекс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о уочимо прескок или се пацијент жали на бол ради се о лезији мениску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3B3B-30FE-4840-A0B1-E90E68D7150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660066"/>
                </a:solidFill>
                <a:latin typeface="Tahoma"/>
              </a:rPr>
              <a:t>Повреде менискус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8380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мировање 10-15 да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физикал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артроско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8F4D-678A-44EA-8C8D-248FC4A0A6E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Скакачко колено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85440" y="16765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вреде припоја мишића екстензора на нивоу пателарних припоја познате су под називом „скакачко колено“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nding – Larsenov sindrom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Скакачко колено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јест синдром пренапрезања  који се карактерише појавом бола у предњем делу колена и то најчешће на врху пателе, тј. на полазишту пателарне вез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187D-0BA2-4B09-ADAD-5A50C616A9F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Лечење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а) Неоперативно лечење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– лечење се спроводи неколико месеци са циљем смиривања локалног упалног процеса и поспешивања зарастања тки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акутној фази (почетак лечења) треба прекинути спортске активности које оптерећују болесни екстремитет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ИЦЕ, НСАИ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95E6-13E2-4802-BF2A-5A14A2E487D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Физикална терапија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кон смирења упале почиње примена термотерапије , чиме се поспешује циркулација и убрзава процес регенерац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асертх, УЗ,  елект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највећем броју случајева примењује терапија ударним таласима (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Shock wave терапиј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0966-CD6A-4DEE-8C6D-A2DA0FCD20F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инезитерапија потребно је у раној фази лечења почети програм вежби јачања и истезања екстензорних мишића (који опружају колено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воде се вежбе са великим бројем понављања и малим оптерећењем, што поспешује прокрвљеност и зарастање тки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оком рехабилитације примењују се и проприоцептивне вежбе на баланс платформи, које укључују интеракцију зглобних рецептора, мишића, тетива и лигамена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поручује се и ношење ортозе за коле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D00A-4395-4F4E-86F5-377FA8B4779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00"/>
                </a:solidFill>
                <a:latin typeface="Tahoma"/>
              </a:rPr>
              <a:t>ПОВРЕДЕ МЕКИХ ТКИВ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онтузије (нагњечења)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мишића, тетива, зглобов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и нера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истензије (истегнућа) мишића и лигамен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исторзије (уганућа)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Луксације (ишчашења)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Руптуре мишића и тетива (парцијалне или комплетн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овреде мишићних фас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екција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ишића и тетив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B5D5-1B42-4391-BEE7-F3EE8CF396F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Терапија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б) Оперативно лечење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– хируршко лечење скакачког колена обично је последња фаза, односно оно се примењује када се није постигло побољшање неоперативним начином лече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8175-5EDE-404B-BE50-568A986B404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Хондромалација пател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змекшање хрскавице различитог ст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ена, док још нема промена на супхондралној к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почетку је реверзибилна, а касније иреверзибилна све до развоја секундарне артроз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3189-09B9-4911-A321-5FDEEC6B890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Хондромалација пател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1" lang="sr-RS" sz="2400" spc="-1" strike="noStrike">
                <a:solidFill>
                  <a:srgbClr val="ff0000"/>
                </a:solidFill>
                <a:latin typeface="Tahoma"/>
              </a:rPr>
              <a:t>Клиничка слик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имптоми су најчешће бол у колену или више нека неодређена нелагода која се погоршава са активношћу или дужим седење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еки пацијенти имају и осећај “напетости” или “пуноће” у колену. Може доћи и до атрофије квадрицепса и отицања кол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0000"/>
                </a:solidFill>
                <a:uFillTx/>
                <a:latin typeface="Tahoma"/>
              </a:rPr>
              <a:t>Јавља се у 4 стадијум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1. оток и размекшавањ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ате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. појава фисура у размекшаним делов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3.стадијум фасцикул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4. стадијум артрозе и огољења субхондралне к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FA52-0B74-47BF-AE3F-1469417E472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Хондромалација пателе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</a:rPr>
              <a:t> – </a:t>
            </a:r>
            <a:br>
              <a:rPr sz="36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Клинички знац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телофеморане крепитације при покретим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 при притиску и померању пате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етљивост на палпацију ван површине пате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бнормани развој пате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интраосеалног притиска унутар пате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ханичко оперећење пателарне хрскавиц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Чешће се јавља код ж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г: клиничка слика, РТГ, артроскоп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DC36-6D16-4398-A824-BCFB283EAF1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вреде потколениц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837720" y="19051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еде мишића потколен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најчешће индиректним механизм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су повређен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gastrocnemius, m.sole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6E04-72A2-4D7A-B83F-F627C4D2BE3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Повреда мишића потколениц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е тупим ударо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дарац оштети мишићно влакно, мишићну капсулу или тетиву, долази до крварења, ствара се хематом унутар или изван капсул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66A2-9EB8-409F-B64C-C37491C84C0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Клиничка слика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) изненадни оштар бол као „убод ножем"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) утисак истегнутости мишић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) цепање и кидање мишић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) одузетост повређеног мишић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) у тренутку повређивања пад спортисте као „покошен"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) немогућност хода јако отежан ход и отежано коришћење повређеног дела тел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) дисфункција суседних зглобова повређеног сегмента тел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) бол при пасивном кретањ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CFF6-D69D-4107-9751-A1AA3FC522E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вреде Ахилове тетив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85440" y="19051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хилова тетива (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tendo Achilli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завршни део троглавог мишића потколенице (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m. triceps sura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припаја се на доњој ивици задње стране петне кости (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alcaneu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.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о је најснажније тетива човечјег тела, дуга 5-6 c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B808-0BD3-4985-8410-0AD13181BC9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вреде Ахилове тетив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762120" y="16002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рок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тру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3-5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изнад припо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ортисти: старији рекреативц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чење оперативно и конзерватив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7B4D-6B07-421A-AE8D-D613503DCF0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Руптура Ахилове тетив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линички знакови су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изразито опипљиво удубљењ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јака бол на притис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активно подизање на врхове прстију једне ноге најсигурније је доказ функционално неоштећене тетив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F903-8BD6-47BC-94E3-9A12F2AB2EF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sr-RS" sz="4000" spc="-1" strike="noStrike">
                <a:solidFill>
                  <a:srgbClr val="660066"/>
                </a:solidFill>
                <a:latin typeface="Tahoma"/>
              </a:rPr>
              <a:t>ПОВРЕДЕ КУ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вреде скочног </a:t>
            </a:r>
            <a:br>
              <a:rPr sz="3600"/>
            </a:b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зглоб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гануће или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исторзија скочног зглоб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учесталија је повреда где највише страда талофибуларна вез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обичајени механизам настанка повреде скочног зглоба је инверзија стопала у плантарној флексиј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C6F8-1303-4CFA-93CE-A77F6613779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вреде скочног зглоб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исторзиј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383760" indent="-383760">
              <a:lnSpc>
                <a:spcPct val="110000"/>
              </a:lnSpc>
              <a:spcBef>
                <a:spcPts val="24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ahoma"/>
                <a:ea typeface="Tahoma"/>
              </a:rPr>
              <a:t>1. степе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:д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ahoma"/>
              </a:rPr>
              <a:t>елимично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 и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ahoma"/>
              </a:rPr>
              <a:t>стезањ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е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ahoma"/>
              </a:rPr>
              <a:t> ligg. и зглобне чаур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е. Зглоб је 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ahoma"/>
              </a:rPr>
              <a:t>отече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 (после неколико дана)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ahoma"/>
              </a:rPr>
              <a:t>, болан и </a:t>
            </a:r>
            <a:r>
              <a:rPr b="0" lang="sr-Latn-RS" sz="2400" spc="-1" strike="noStrike">
                <a:solidFill>
                  <a:srgbClr val="0070c0"/>
                </a:solidFill>
                <a:latin typeface="Tahoma"/>
                <a:ea typeface="Tahoma"/>
              </a:rPr>
              <a:t>стабилан</a:t>
            </a:r>
            <a:r>
              <a:rPr b="0" lang="sr-RS" sz="2400" spc="-1" strike="noStrike">
                <a:solidFill>
                  <a:srgbClr val="0070c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383760" indent="-383760">
              <a:spcBef>
                <a:spcPts val="24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ahoma"/>
                <a:ea typeface="Tahoma"/>
              </a:rPr>
              <a:t>2. степен</a:t>
            </a:r>
            <a:r>
              <a:rPr b="0" lang="sr-RS" sz="2400" spc="-1" strike="noStrike">
                <a:solidFill>
                  <a:srgbClr val="0070c0"/>
                </a:solidFill>
                <a:latin typeface="Tahoma"/>
                <a:ea typeface="Tahoma"/>
              </a:rPr>
              <a:t>:н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апрснуће меких структура зглоба (лигамената или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капсул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)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Зглоб је јако болан, делимично натечен, са знацима излива и 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  <a:ea typeface="Tahoma"/>
              </a:rPr>
              <a:t>лагано нестабила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383760" indent="-383760">
              <a:lnSpc>
                <a:spcPct val="110000"/>
              </a:lnSpc>
              <a:spcBef>
                <a:spcPts val="24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ahoma"/>
                <a:ea typeface="Tahoma"/>
              </a:rPr>
              <a:t>3. степен</a:t>
            </a:r>
            <a:r>
              <a:rPr b="0" lang="sr-RS" sz="2400" spc="-1" strike="noStrike">
                <a:solidFill>
                  <a:srgbClr val="0070c0"/>
                </a:solidFill>
                <a:latin typeface="Tahoma"/>
                <a:ea typeface="Tahoma"/>
              </a:rPr>
              <a:t>: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П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окидане зглобне в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з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, а истовремено је и капсула зглоба поцепан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. Лечење оперативно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383760" indent="-383760">
              <a:lnSpc>
                <a:spcPct val="110000"/>
              </a:lnSpc>
              <a:spcBef>
                <a:spcPts val="24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32F4-5A9B-4853-A901-20534475BDD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9" name="AutoShape 2"/>
          <p:cNvSpPr/>
          <p:nvPr/>
        </p:nvSpPr>
        <p:spPr>
          <a:xfrm>
            <a:off x="18720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6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66"/>
                </a:solidFill>
                <a:latin typeface="Tahoma"/>
              </a:rPr>
              <a:t>Рехабилитација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660066"/>
                </a:solidFill>
                <a:latin typeface="Tahoma"/>
              </a:rPr>
              <a:t>након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660066"/>
                </a:solidFill>
                <a:latin typeface="Tahoma"/>
              </a:rPr>
              <a:t>повреде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660066"/>
                </a:solidFill>
                <a:latin typeface="Tahoma"/>
              </a:rPr>
              <a:t>меких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660066"/>
                </a:solidFill>
                <a:latin typeface="Tahoma"/>
              </a:rPr>
              <a:t>ткив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8380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97000" indent="-2970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Циљеви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У фази инфламациј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мањити бол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превенира ширење повреде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мањи крварење и оток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мањити запаљенски ексудат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У фази репарациј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убрзање репараторних процеса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У фази ремоделациј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Постићи максимални функционални опоравак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повратити флексибилност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мишићну снагу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издржљивост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брзину и координацију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побољшати кардиореспираторну способност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7000" indent="-297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0123-1E52-43A1-809A-297D65785DC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ФАЗА ЗАПАЉЕЊ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2282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едикаментнозна 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НСАИЛ,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hymoral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епатромбин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ел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Лед или локално хлађењ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24-48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есе са ледом или криомасаж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омпресивни завој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ировање или имобилизација повређеног дела тел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Елев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инези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од првог да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441440" indent="-234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ометријске вежб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441440" indent="-234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дисањ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441440" indent="-234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слободних сегмента екстремитета и труп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Физикални агенси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441440" indent="-234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RISE, IMP, IF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FC3D-9796-42FA-959D-F718C142E82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Фаза репарац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Термотерапиј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0960" indent="-370080">
              <a:lnSpc>
                <a:spcPct val="80000"/>
              </a:lnSpc>
              <a:spcBef>
                <a:spcPts val="34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Деловањем</a:t>
            </a:r>
            <a:r>
              <a:rPr b="1" i="1" lang="en-US" sz="1400" spc="-1" strike="noStrike">
                <a:solidFill>
                  <a:srgbClr val="40458c"/>
                </a:solidFill>
                <a:latin typeface="Tahoma"/>
              </a:rPr>
              <a:t> на циркулацију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110960" indent="-370080">
              <a:lnSpc>
                <a:spcPct val="80000"/>
              </a:lnSpc>
              <a:spcBef>
                <a:spcPts val="34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Деловањем </a:t>
            </a:r>
            <a:r>
              <a:rPr b="1" i="1" lang="en-US" sz="1400" spc="-1" strike="noStrike">
                <a:solidFill>
                  <a:srgbClr val="40458c"/>
                </a:solidFill>
                <a:latin typeface="Tahoma"/>
              </a:rPr>
              <a:t>на везивно ткиво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Електротерапија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Ултразвучна терапиј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Ултраљубичасти зрац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Ласеротерапија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Магнетотерапиј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02440" indent="-432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Код коштаних прелома до 2 сата преко гипса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Вакусак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– хипобарична терапија. Навлаке према локализацији (капа, рука, мања или већа чизма, џак) подпритисак од  -0,05 до 0,55 бара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Васкулатор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преко коморе за горње или доње екстремитете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Кинезитерапиј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0960" indent="-370080">
              <a:lnSpc>
                <a:spcPct val="80000"/>
              </a:lnSpc>
              <a:spcBef>
                <a:spcPts val="34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Чим болови престану после 2-3 дана, почиње мобилизација сегмента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110960" indent="-370080">
              <a:lnSpc>
                <a:spcPct val="80000"/>
              </a:lnSpc>
              <a:spcBef>
                <a:spcPts val="34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Програм допуњавају вежбе слободних сегмената екстремитета и опште кондиције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93560" indent="-493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Хидротерапиј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0960" indent="-370080">
              <a:lnSpc>
                <a:spcPct val="80000"/>
              </a:lnSpc>
              <a:spcBef>
                <a:spcPts val="3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Топли облог. Изазива активну хиперемију коже, смањује бол и спазам мишића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110960" indent="-370080">
              <a:lnSpc>
                <a:spcPct val="80000"/>
              </a:lnSpc>
              <a:spcBef>
                <a:spcPts val="3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Наизменичне (контрастне) купке.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110960" indent="-370080">
              <a:lnSpc>
                <a:spcPct val="80000"/>
              </a:lnSpc>
              <a:spcBef>
                <a:spcPts val="3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Вртложна купка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110960" indent="-370080">
              <a:lnSpc>
                <a:spcPct val="80000"/>
              </a:lnSpc>
              <a:spcBef>
                <a:spcPts val="3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Подводна масажа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110960" indent="-370080">
              <a:lnSpc>
                <a:spcPct val="80000"/>
              </a:lnSpc>
              <a:spcBef>
                <a:spcPts val="3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Подводне вежбе</a:t>
            </a:r>
            <a:r>
              <a:rPr b="0" lang="sr-Latn-CS" sz="12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разне врсте тушева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3262-038E-4058-A065-F1A3961B01C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Фаза ремоделирањ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380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Кинези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хидрокинезитерапиј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а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основ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читавог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огра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кценат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активним</a:t>
            </a:r>
            <a:r>
              <a:rPr b="1" i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1" i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вежбам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Физикални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агенси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онтинуиран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лтразву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МП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ласеро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термо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електро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26A9-0EB4-4AC3-BF91-76F5DFE415E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Главни задатак карличног појаса у целини је у одржавању </a:t>
            </a:r>
            <a:r>
              <a:rPr b="0" lang="ru-RU" sz="2400" spc="-1" strike="noStrike" u="sng">
                <a:solidFill>
                  <a:srgbClr val="660066"/>
                </a:solidFill>
                <a:uFillTx/>
                <a:latin typeface="Tahoma"/>
              </a:rPr>
              <a:t>стабилности и ослонца тела 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нарочито при извођењу активности трупа и доњих екстремитета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D70C-AEB0-4EDF-A5DC-8CC694C281B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Контузије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ређене локализација на карлици су због свог положаја чешће изложене контузија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о је предео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ристе или</a:t>
            </a:r>
            <a:r>
              <a:rPr b="1" lang="sr-Latn-CS" sz="2400" spc="-1" strike="noStrike" u="sng">
                <a:solidFill>
                  <a:srgbClr val="40458c"/>
                </a:solidFill>
                <a:uFillTx/>
                <a:latin typeface="Tahoma"/>
              </a:rPr>
              <a:t>ja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е, сакрума и великог трохантер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Клиничком сликом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минир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ток, хематом и бол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тузије глутелне мускулатуре се клинички манифестују клиничком сликом мноштва интрамускуларних хематома због богатства к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ематоми могу да се спусте и у натколену рег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691C-7589-492D-88A9-B07350898F3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3T08:34:55Z</dcterms:modified>
  <cp:revision>977</cp:revision>
  <dc:subject/>
  <dc:title>Rehabilitacija traumatoloških bolesnika</dc:title>
</cp:coreProperties>
</file>